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8AA4C-1CA2-4FD6-B726-27957E97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189D8-7F04-4408-A0B2-0F7E7CA6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44E1B-2A5E-4AB6-87F5-930360C9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02383-EC11-4764-AF61-DD903C53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3CE2-F9B7-4C2E-B258-3E7BFD61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E5B2-EFFE-44E2-AC35-18057D79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2ED5-B4BE-4661-A9CA-E50424C9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2131-CB90-4B6E-B1C0-6D6B60F7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5C8B-D828-4208-B54D-226D772B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E7F7-F7EF-4258-9FF2-53CD23CF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0430-BA1D-4FA0-BF5B-A8A2960C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99BCE-0D8D-4BCB-8EAE-70DA0309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6B7A-CA8B-410E-B924-381C25E2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E541-CE38-432F-8B09-77DD4541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BC37-0038-47B8-9972-A9B4C1BF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7E94-BF84-4275-91DB-150F9E37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CB79-F389-458F-A20A-6ABBBFD9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6FC0F-F585-4A6F-AA21-7EA1937C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545CB-FAA0-41D0-8A4A-432F90C2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1DD80-C2D7-43BB-9356-84E60A05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B8FF8-76BD-46E0-944B-04B31477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4832C-1CE3-4239-8CE7-7D4C2F5B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49FC3-9491-4C4E-819F-1FCF69A6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E280E-FE27-465A-9E16-1C867923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1253-5B32-4F1B-9253-500C074821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5DE0-2416-4D3D-9A5A-B720E5E733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andling Marker-Marker Linkage Disequilibrium: Pedigree Analysis with Clustered Marker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09120" y="44953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ahoma"/>
              </a:rPr>
              <a:t>çalo Abecasis and Janis Wiggin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ahoma"/>
              </a:rPr>
              <a:t>University of Michigan, Ann Arb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ahoma"/>
              </a:rPr>
              <a:t>(in American Journal of Human Genetics, 200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er-Green Algorithm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the transition probabilities between inheritance vectors at consecutive markers: P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then do the Markov-chain calculations in a standard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438280" y="4408560"/>
            <a:ext cx="4599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50640" y="-360"/>
            <a:ext cx="8412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nsit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932120" y="876240"/>
                <a:ext cx="670212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re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,f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86760" y="107172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88920" y="3327480"/>
                <a:ext cx="901224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θ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θ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θ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θ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θ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θ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θ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θ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6" name=""/>
          <p:cNvGrpSpPr/>
          <p:nvPr/>
        </p:nvGrpSpPr>
        <p:grpSpPr>
          <a:xfrm>
            <a:off x="87480" y="5286240"/>
            <a:ext cx="6068880" cy="581040"/>
            <a:chOff x="87480" y="5286240"/>
            <a:chExt cx="6068880" cy="581040"/>
          </a:xfrm>
        </p:grpSpPr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3306600" y="5286240"/>
                  <a:ext cx="2849760" cy="58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⊗</m:t>
                      </m:r>
                      <m:r>
                        <m:t xml:space="preserve">M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"/>
            <p:cNvSpPr/>
            <p:nvPr/>
          </p:nvSpPr>
          <p:spPr>
            <a:xfrm>
              <a:off x="87480" y="5302080"/>
              <a:ext cx="32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The Kronecker produc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875280" y="5322960"/>
            <a:ext cx="2006640" cy="1144440"/>
            <a:chOff x="6875280" y="5322960"/>
            <a:chExt cx="2006640" cy="1144440"/>
          </a:xfrm>
        </p:grpSpPr>
        <p:sp>
          <p:nvSpPr>
            <p:cNvPr id="210" name=""/>
            <p:cNvSpPr/>
            <p:nvPr/>
          </p:nvSpPr>
          <p:spPr>
            <a:xfrm flipH="1">
              <a:off x="6875280" y="5640480"/>
              <a:ext cx="1090440" cy="82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7273800" y="5322960"/>
                  <a:ext cx="160812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rPr>
                          <m:lit/>
                          <m:nor/>
                        </m:rPr>
                        <m:t xml:space="preserve">hen</m:t>
                      </m:r>
                      <m:r>
                        <m:t xml:space="preserve">: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2" name=""/>
          <p:cNvGrpSpPr/>
          <p:nvPr/>
        </p:nvGrpSpPr>
        <p:grpSpPr>
          <a:xfrm>
            <a:off x="88920" y="5865840"/>
            <a:ext cx="8637480" cy="923760"/>
            <a:chOff x="88920" y="5865840"/>
            <a:chExt cx="8637480" cy="923760"/>
          </a:xfrm>
        </p:grpSpPr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171360" y="6292800"/>
                  <a:ext cx="807408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⊗</m:t>
                          </m:r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d>
                      <m:r>
                        <m:t xml:space="preserve">⊗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n times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⊗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⊗</m:t>
                          </m:r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d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=⊗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n</m:t>
                          </m:r>
                        </m:sup>
                      </m:sSup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4" name=""/>
            <p:cNvSpPr/>
            <p:nvPr/>
          </p:nvSpPr>
          <p:spPr>
            <a:xfrm>
              <a:off x="88920" y="5865840"/>
              <a:ext cx="863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n non-founders, the transition matrix is the n-fold Kronecker  produc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88920" y="1662120"/>
            <a:ext cx="833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eta depends on I but this dependence is omitted. In our example, where we have one non-founder (n=1), the transition probability table size is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ing four options of recombination/non-recombination for the two parental meio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0640" y="-360"/>
            <a:ext cx="8412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80880" y="1066680"/>
                <a:ext cx="6450120" cy="18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⋅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θ</m:t>
                                      </m:r>
                                    </m:e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θ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θ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θ</m:t>
                                      </m:r>
                                    </m:e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θ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670200" y="3105000"/>
                <a:ext cx="445932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⋅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θ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430200" y="4098960"/>
            <a:ext cx="810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if we start with a matrix of siz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nee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s if we had matrix A in hands.  Continuing recursively, at most 2n times, yields a complexity of O(2n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 less than O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needed for regular multi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=10 non-founders, we drop from non-feasible region to feasible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ies that we need for the Lander-Green algorithm to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ance vector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ach marker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otype probabilities: P(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probabilities: P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er-Green with LD Mar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46861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 and 3 remain un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 needs to compute P(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clu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89160" y="2200320"/>
            <a:ext cx="476424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ability of Observed Genotypes within a Cluster: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P(G</a:t>
            </a:r>
            <a:r>
              <a:rPr b="0" lang="en-US" sz="3200" spc="-1" strike="noStrike" baseline="-25000">
                <a:solidFill>
                  <a:srgbClr val="9999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,G</a:t>
            </a:r>
            <a:r>
              <a:rPr b="0" lang="en-US" sz="3200" spc="-1" strike="noStrike" baseline="-25000">
                <a:solidFill>
                  <a:srgbClr val="9999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…G</a:t>
            </a:r>
            <a:r>
              <a:rPr b="0" lang="en-US" sz="3200" spc="-1" strike="noStrike" baseline="-25000">
                <a:solidFill>
                  <a:srgbClr val="9999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|</a:t>
            </a:r>
            <a:r>
              <a:rPr b="1" lang="en-US" sz="3200" spc="-1" strike="noStrike">
                <a:solidFill>
                  <a:srgbClr val="9999ff"/>
                </a:solidFill>
                <a:latin typeface="Arial"/>
              </a:rPr>
              <a:t>v</a:t>
            </a:r>
            <a:r>
              <a:rPr b="1" lang="en-US" sz="3200" spc="-1" strike="noStrike" baseline="-25000">
                <a:solidFill>
                  <a:srgbClr val="9999ff"/>
                </a:solidFill>
                <a:latin typeface="Arial"/>
              </a:rPr>
              <a:t>cluster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200400" y="2398680"/>
            <a:ext cx="2209680" cy="1106640"/>
            <a:chOff x="3200400" y="2398680"/>
            <a:chExt cx="2209680" cy="1106640"/>
          </a:xfrm>
        </p:grpSpPr>
        <p:sp>
          <p:nvSpPr>
            <p:cNvPr id="228" name=""/>
            <p:cNvSpPr/>
            <p:nvPr/>
          </p:nvSpPr>
          <p:spPr>
            <a:xfrm>
              <a:off x="3681360" y="2976480"/>
              <a:ext cx="1263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99ff"/>
                  </a:solidFill>
                  <a:latin typeface="Arial"/>
                </a:rPr>
                <a:t>G</a:t>
              </a:r>
              <a:r>
                <a:rPr b="0" lang="en-US" sz="1800" spc="-1" strike="noStrike" baseline="-25000">
                  <a:solidFill>
                    <a:srgbClr val="9999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9999ff"/>
                  </a:solidFill>
                  <a:latin typeface="Arial"/>
                </a:rPr>
                <a:t>,G</a:t>
              </a:r>
              <a:r>
                <a:rPr b="0" lang="en-US" sz="1800" spc="-1" strike="noStrike" baseline="-25000">
                  <a:solidFill>
                    <a:srgbClr val="9999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9999ff"/>
                  </a:solidFill>
                  <a:latin typeface="Arial"/>
                </a:rPr>
                <a:t>…G</a:t>
              </a:r>
              <a:r>
                <a:rPr b="0" lang="en-US" sz="1800" spc="-1" strike="noStrike" baseline="-25000">
                  <a:solidFill>
                    <a:srgbClr val="9999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00400" y="2819520"/>
              <a:ext cx="220968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50200" y="23986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u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457200" y="365760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99ff"/>
                </a:solidFill>
                <a:latin typeface="Arial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ct haplotypes in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99ff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9999ff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9999ff"/>
                </a:solidFill>
                <a:latin typeface="Arial"/>
              </a:rPr>
              <a:t>,…,p</a:t>
            </a:r>
            <a:r>
              <a:rPr b="0" i="1" lang="en-US" sz="2400" spc="-1" strike="noStrike" baseline="-25000">
                <a:solidFill>
                  <a:srgbClr val="9999ff"/>
                </a:solidFill>
                <a:latin typeface="Arial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99ff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9999ff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of founder haplotyp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wher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 = 1…2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54100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: for each inheritance ve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P(G</a:t>
            </a:r>
            <a:r>
              <a:rPr b="0" lang="en-US" sz="3200" spc="-1" strike="noStrike" baseline="-25000">
                <a:solidFill>
                  <a:srgbClr val="9999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…G</a:t>
            </a:r>
            <a:r>
              <a:rPr b="0" lang="en-US" sz="3200" spc="-1" strike="noStrike" baseline="-25000">
                <a:solidFill>
                  <a:srgbClr val="9999ff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|p</a:t>
            </a:r>
            <a:r>
              <a:rPr b="0" lang="en-US" sz="3200" spc="-1" strike="noStrike" baseline="-25000">
                <a:solidFill>
                  <a:srgbClr val="9999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…p</a:t>
            </a:r>
            <a:r>
              <a:rPr b="0" lang="en-US" sz="3200" spc="-1" strike="noStrike" baseline="-25000">
                <a:solidFill>
                  <a:srgbClr val="9999ff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9999ff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3520" y="1217520"/>
            <a:ext cx="2971800" cy="5968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352680" y="1217520"/>
            <a:ext cx="3251160" cy="584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6435720" y="1293840"/>
            <a:ext cx="2098800" cy="4366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295800" y="1770120"/>
            <a:ext cx="3481200" cy="7398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6467400" y="1805040"/>
            <a:ext cx="1868400" cy="641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 rot="16200000">
            <a:off x="5486400" y="1522440"/>
            <a:ext cx="152640" cy="1828800"/>
          </a:xfrm>
          <a:custGeom>
            <a:avLst/>
            <a:gdLst>
              <a:gd name="textAreaLeft" fmla="*/ 97560 w 152640"/>
              <a:gd name="textAreaRight" fmla="*/ 153000 w 1526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2589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93800" y="3057480"/>
            <a:ext cx="44312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either </a:t>
            </a:r>
            <a:r>
              <a:rPr b="1" lang="en-US" sz="2000" spc="-1" strike="noStrike">
                <a:solidFill>
                  <a:srgbClr val="9999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implied haplotyp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individual are compatible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bserved genotypes, and </a:t>
            </a:r>
            <a:r>
              <a:rPr b="1" lang="en-US" sz="2000" spc="-1" strike="noStrike">
                <a:solidFill>
                  <a:srgbClr val="9999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therwi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6"/>
          <a:stretch/>
        </p:blipFill>
        <p:spPr>
          <a:xfrm>
            <a:off x="3505320" y="4494240"/>
            <a:ext cx="2887560" cy="6904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7"/>
          <a:stretch/>
        </p:blipFill>
        <p:spPr>
          <a:xfrm>
            <a:off x="638280" y="4522680"/>
            <a:ext cx="2971800" cy="5968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757160" y="5332320"/>
            <a:ext cx="61185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n-US" sz="1800" spc="-1" strike="noStrike">
                <a:solidFill>
                  <a:srgbClr val="9999ff"/>
                </a:solidFill>
                <a:latin typeface="Arial"/>
              </a:rPr>
              <a:t>S(…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set of founder haplotype configu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tible with the inheritance vec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obser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otype data 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go to paper for S expla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895120" y="5027760"/>
            <a:ext cx="1295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81160" y="334800"/>
            <a:ext cx="8581680" cy="618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imation of Haplotype Frequencies in General Pedigr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er haplotypes frequencies for each cluster are generally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-counting EM algorithm for estimating the haplotype frequencies in each 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package MER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tic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 sibships, each with three affected siblings and one genotyped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dataset – Psoria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tuart et al.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158 individuals in 274 families in Germany and USA, and 2,598 individuals were genoty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linkage analysis algorithms assume independence between mark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markers are relatively “far apart” from each other (on the chromoso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linkage analysis based on Single-Nucleotide Polymorphic markers (SN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the distance between SNP markers is very small (also known as Linkage Disequilibrium (LD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xtend the Lander-Green algorithm to incorporate marker-marker 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4218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218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digre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unders (i.e. with unknown par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cend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e data available at a series of genetic markers for one or more individuals in the pedigree (some markers can be in 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 the inheritanc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LOD score, maximum-likelihood haplotyp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rs can be organized into non-overlapping clusters such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rs in the same cluster may be in 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rs in different clusters may exhibit low levels of 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ignore LD between markers in different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bination rate is extremely low within each cluster (set 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ahoma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ahoma"/>
              </a:rPr>
              <a:t> = 0, inside a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er-Gree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599000" cy="2221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062800" y="4419720"/>
            <a:ext cx="485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variables represent the observed geno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imilar to Dan Geiger X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riables represent the “inheritance vecto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imilar to Dan Geiger’s selector vari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8040" y="182880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dden Markov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4240" y="6172200"/>
            <a:ext cx="556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</a:t>
            </a:r>
            <a:r>
              <a:rPr b="0" lang="en-US" sz="1800" spc="-1" strike="noStrike">
                <a:solidFill>
                  <a:srgbClr val="9999ff"/>
                </a:solidFill>
                <a:latin typeface="Arial"/>
              </a:rPr>
              <a:t>compute P(G</a:t>
            </a:r>
            <a:r>
              <a:rPr b="0" lang="en-US" sz="1800" spc="-1" strike="noStrike" baseline="-25000">
                <a:solidFill>
                  <a:srgbClr val="9999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9999ff"/>
                </a:solidFill>
                <a:latin typeface="Arial"/>
              </a:rPr>
              <a:t>,…,G</a:t>
            </a:r>
            <a:r>
              <a:rPr b="0" lang="en-US" sz="1800" spc="-1" strike="noStrike" baseline="-25000">
                <a:solidFill>
                  <a:srgbClr val="9999ff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9999ff"/>
                </a:solidFill>
                <a:latin typeface="Arial"/>
              </a:rPr>
              <a:t>|</a:t>
            </a:r>
            <a:r>
              <a:rPr b="0" lang="el-GR" sz="1800" spc="-1" strike="noStrike">
                <a:solidFill>
                  <a:srgbClr val="9999ff"/>
                </a:solidFill>
                <a:latin typeface="Arial"/>
                <a:ea typeface="Arial"/>
              </a:rPr>
              <a:t>θ</a:t>
            </a:r>
            <a:r>
              <a:rPr b="0" lang="en-US" sz="1800" spc="-1" strike="noStrike">
                <a:solidFill>
                  <a:srgbClr val="9999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ed for LOD sc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er-Green Algorithm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umeration of all possible “inheritance vectors” in the input pedi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founders, the inheritance vect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arke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ctor recording the transmission of the paternal or maternal allele (i.e.,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elector vari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Geiger’s 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up to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heritance vectors (Lander&amp;Green19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er-Green Algorithm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ng over inheritance vectors and markers to calculate the probability of the observed genotypes for each marker conditioned on a particular inheritance ve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done using the “genetic descendant graph” (see Geiger 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0920" y="54720"/>
            <a:ext cx="8412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920" y="969840"/>
            <a:ext cx="8140680" cy="299268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1960" y="1781280"/>
            <a:ext cx="655560" cy="36036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97080" y="1163520"/>
            <a:ext cx="655920" cy="36036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1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87520" y="1155600"/>
            <a:ext cx="657360" cy="35892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67120" y="2859120"/>
            <a:ext cx="657360" cy="35892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19240" y="1778040"/>
            <a:ext cx="659160" cy="3618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6" idx="4"/>
            <a:endCxn id="128" idx="0"/>
          </p:cNvCxnSpPr>
          <p:nvPr/>
        </p:nvCxnSpPr>
        <p:spPr>
          <a:xfrm>
            <a:off x="3425400" y="1536480"/>
            <a:ext cx="770760" cy="130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7" idx="4"/>
            <a:endCxn id="128" idx="0"/>
          </p:cNvCxnSpPr>
          <p:nvPr/>
        </p:nvCxnSpPr>
        <p:spPr>
          <a:xfrm>
            <a:off x="1816200" y="1528560"/>
            <a:ext cx="2379960" cy="1316160"/>
          </a:xfrm>
          <a:prstGeom prst="straightConnector1">
            <a:avLst/>
          </a:prstGeom>
          <a:ln cap="rnd" w="38160">
            <a:solidFill>
              <a:srgbClr val="00007d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27" idx="5"/>
            <a:endCxn id="129" idx="1"/>
          </p:cNvCxnSpPr>
          <p:nvPr/>
        </p:nvCxnSpPr>
        <p:spPr>
          <a:xfrm>
            <a:off x="2047680" y="1474920"/>
            <a:ext cx="967320" cy="343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6" idx="3"/>
            <a:endCxn id="129" idx="1"/>
          </p:cNvCxnSpPr>
          <p:nvPr/>
        </p:nvCxnSpPr>
        <p:spPr>
          <a:xfrm flipH="1">
            <a:off x="3014640" y="1484280"/>
            <a:ext cx="178200" cy="334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5" idx="6"/>
            <a:endCxn id="128" idx="1"/>
          </p:cNvCxnSpPr>
          <p:nvPr/>
        </p:nvCxnSpPr>
        <p:spPr>
          <a:xfrm>
            <a:off x="1231560" y="1962000"/>
            <a:ext cx="2732400" cy="937440"/>
          </a:xfrm>
          <a:prstGeom prst="straightConnector1">
            <a:avLst/>
          </a:prstGeom>
          <a:ln cap="rnd" w="38160">
            <a:solidFill>
              <a:srgbClr val="00007d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7765920" y="1781280"/>
            <a:ext cx="655920" cy="36036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3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97600" y="1163520"/>
            <a:ext cx="657360" cy="36036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76960" y="1163520"/>
            <a:ext cx="657000" cy="35892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18160" y="2854440"/>
            <a:ext cx="657000" cy="36036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3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7240" y="1781280"/>
            <a:ext cx="658800" cy="3603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6" idx="4"/>
            <a:endCxn id="138" idx="0"/>
          </p:cNvCxnSpPr>
          <p:nvPr/>
        </p:nvCxnSpPr>
        <p:spPr>
          <a:xfrm flipH="1">
            <a:off x="5046480" y="1536840"/>
            <a:ext cx="2180160" cy="1303920"/>
          </a:xfrm>
          <a:prstGeom prst="straightConnector1">
            <a:avLst/>
          </a:prstGeom>
          <a:ln cap="rnd" w="38160">
            <a:solidFill>
              <a:srgbClr val="00007d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41" name=""/>
          <p:cNvCxnSpPr>
            <a:stCxn id="137" idx="4"/>
            <a:endCxn id="138" idx="0"/>
          </p:cNvCxnSpPr>
          <p:nvPr/>
        </p:nvCxnSpPr>
        <p:spPr>
          <a:xfrm flipH="1">
            <a:off x="5046480" y="1534680"/>
            <a:ext cx="659520" cy="130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7" idx="4"/>
            <a:endCxn id="139" idx="0"/>
          </p:cNvCxnSpPr>
          <p:nvPr/>
        </p:nvCxnSpPr>
        <p:spPr>
          <a:xfrm>
            <a:off x="5705280" y="1535040"/>
            <a:ext cx="262080" cy="232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6" idx="3"/>
            <a:endCxn id="139" idx="7"/>
          </p:cNvCxnSpPr>
          <p:nvPr/>
        </p:nvCxnSpPr>
        <p:spPr>
          <a:xfrm flipH="1">
            <a:off x="6199920" y="1483920"/>
            <a:ext cx="793080" cy="33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5" idx="2"/>
            <a:endCxn id="138" idx="7"/>
          </p:cNvCxnSpPr>
          <p:nvPr/>
        </p:nvCxnSpPr>
        <p:spPr>
          <a:xfrm flipH="1">
            <a:off x="5277960" y="1961640"/>
            <a:ext cx="2473920" cy="932760"/>
          </a:xfrm>
          <a:prstGeom prst="straightConnector1">
            <a:avLst/>
          </a:prstGeom>
          <a:ln cap="rnd" w="38160">
            <a:solidFill>
              <a:srgbClr val="00007d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4294080" y="3448080"/>
            <a:ext cx="65880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38" idx="4"/>
            <a:endCxn id="145" idx="0"/>
          </p:cNvCxnSpPr>
          <p:nvPr/>
        </p:nvCxnSpPr>
        <p:spPr>
          <a:xfrm flipH="1">
            <a:off x="4622400" y="3227040"/>
            <a:ext cx="424800" cy="207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8" idx="4"/>
            <a:endCxn id="145" idx="0"/>
          </p:cNvCxnSpPr>
          <p:nvPr/>
        </p:nvCxnSpPr>
        <p:spPr>
          <a:xfrm>
            <a:off x="4195800" y="3232080"/>
            <a:ext cx="427680" cy="202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1192320" y="360216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 for locu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74800" y="703440"/>
            <a:ext cx="0" cy="1069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088480" y="700200"/>
            <a:ext cx="0" cy="1069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94600" y="2157480"/>
            <a:ext cx="0" cy="21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71560" y="2158920"/>
            <a:ext cx="0" cy="2170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8920" y="4414680"/>
            <a:ext cx="8670960" cy="11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ume only individual 3 is genotyped. For the inheritance vector (0,1), the founder alleles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1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2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re not restricted by the data while 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1f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2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 have two possible joint assignments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 or 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 on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8240" y="3556080"/>
            <a:ext cx="133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496000" y="176832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91720" y="197496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0040" y="5372280"/>
            <a:ext cx="690552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,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|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3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3f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p(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p(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8920" y="5923080"/>
            <a:ext cx="8670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general.  Every inheritance vector defines a subgraph of the Bayesian network above.  We build a founder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0920" y="54720"/>
            <a:ext cx="8412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990720"/>
            <a:ext cx="8140680" cy="299232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1960" y="1781280"/>
            <a:ext cx="655560" cy="36036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97080" y="1163520"/>
            <a:ext cx="655920" cy="36036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1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87520" y="1155600"/>
            <a:ext cx="657360" cy="35892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67120" y="2859120"/>
            <a:ext cx="657360" cy="35892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19240" y="1778040"/>
            <a:ext cx="659160" cy="3618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2" idx="4"/>
            <a:endCxn id="164" idx="0"/>
          </p:cNvCxnSpPr>
          <p:nvPr/>
        </p:nvCxnSpPr>
        <p:spPr>
          <a:xfrm>
            <a:off x="3425400" y="1536480"/>
            <a:ext cx="770760" cy="130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3" idx="4"/>
            <a:endCxn id="164" idx="0"/>
          </p:cNvCxnSpPr>
          <p:nvPr/>
        </p:nvCxnSpPr>
        <p:spPr>
          <a:xfrm>
            <a:off x="1816200" y="1528560"/>
            <a:ext cx="2379960" cy="1316160"/>
          </a:xfrm>
          <a:prstGeom prst="straightConnector1">
            <a:avLst/>
          </a:prstGeom>
          <a:ln cap="rnd" w="38160">
            <a:solidFill>
              <a:srgbClr val="00007d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68" name=""/>
          <p:cNvCxnSpPr>
            <a:stCxn id="163" idx="5"/>
            <a:endCxn id="165" idx="1"/>
          </p:cNvCxnSpPr>
          <p:nvPr/>
        </p:nvCxnSpPr>
        <p:spPr>
          <a:xfrm>
            <a:off x="2047680" y="1474920"/>
            <a:ext cx="967320" cy="343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2" idx="3"/>
            <a:endCxn id="165" idx="1"/>
          </p:cNvCxnSpPr>
          <p:nvPr/>
        </p:nvCxnSpPr>
        <p:spPr>
          <a:xfrm flipH="1">
            <a:off x="3014640" y="1484280"/>
            <a:ext cx="178200" cy="334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6"/>
            <a:endCxn id="164" idx="1"/>
          </p:cNvCxnSpPr>
          <p:nvPr/>
        </p:nvCxnSpPr>
        <p:spPr>
          <a:xfrm>
            <a:off x="1231560" y="1962000"/>
            <a:ext cx="2732400" cy="937440"/>
          </a:xfrm>
          <a:prstGeom prst="straightConnector1">
            <a:avLst/>
          </a:prstGeom>
          <a:ln cap="rnd" w="38160">
            <a:solidFill>
              <a:srgbClr val="00007d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7765920" y="1781280"/>
            <a:ext cx="655920" cy="36036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3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97600" y="1163520"/>
            <a:ext cx="657360" cy="36036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1163520"/>
            <a:ext cx="657000" cy="35892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18160" y="2854440"/>
            <a:ext cx="657000" cy="36036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3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7240" y="1781280"/>
            <a:ext cx="658800" cy="3603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72" idx="4"/>
            <a:endCxn id="174" idx="0"/>
          </p:cNvCxnSpPr>
          <p:nvPr/>
        </p:nvCxnSpPr>
        <p:spPr>
          <a:xfrm flipH="1">
            <a:off x="5046480" y="1536840"/>
            <a:ext cx="2180160" cy="1303920"/>
          </a:xfrm>
          <a:prstGeom prst="straightConnector1">
            <a:avLst/>
          </a:prstGeom>
          <a:ln cap="rnd" w="38160">
            <a:solidFill>
              <a:srgbClr val="00007d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77" name=""/>
          <p:cNvCxnSpPr>
            <a:stCxn id="173" idx="4"/>
            <a:endCxn id="174" idx="0"/>
          </p:cNvCxnSpPr>
          <p:nvPr/>
        </p:nvCxnSpPr>
        <p:spPr>
          <a:xfrm flipH="1">
            <a:off x="5046480" y="1534680"/>
            <a:ext cx="659520" cy="130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3" idx="4"/>
            <a:endCxn id="175" idx="0"/>
          </p:cNvCxnSpPr>
          <p:nvPr/>
        </p:nvCxnSpPr>
        <p:spPr>
          <a:xfrm>
            <a:off x="5705280" y="1535040"/>
            <a:ext cx="262080" cy="232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2" idx="3"/>
            <a:endCxn id="175" idx="7"/>
          </p:cNvCxnSpPr>
          <p:nvPr/>
        </p:nvCxnSpPr>
        <p:spPr>
          <a:xfrm flipH="1">
            <a:off x="6199920" y="1483920"/>
            <a:ext cx="793080" cy="33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1" idx="2"/>
            <a:endCxn id="174" idx="7"/>
          </p:cNvCxnSpPr>
          <p:nvPr/>
        </p:nvCxnSpPr>
        <p:spPr>
          <a:xfrm flipH="1">
            <a:off x="5277960" y="1961640"/>
            <a:ext cx="2473920" cy="932760"/>
          </a:xfrm>
          <a:prstGeom prst="straightConnector1">
            <a:avLst/>
          </a:prstGeom>
          <a:ln cap="rnd" w="38160">
            <a:solidFill>
              <a:srgbClr val="00007d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4294080" y="3448080"/>
            <a:ext cx="65880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"/>
          <p:cNvCxnSpPr>
            <a:stCxn id="174" idx="4"/>
            <a:endCxn id="181" idx="0"/>
          </p:cNvCxnSpPr>
          <p:nvPr/>
        </p:nvCxnSpPr>
        <p:spPr>
          <a:xfrm flipH="1">
            <a:off x="4622400" y="3227040"/>
            <a:ext cx="424800" cy="207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64" idx="4"/>
            <a:endCxn id="181" idx="0"/>
          </p:cNvCxnSpPr>
          <p:nvPr/>
        </p:nvCxnSpPr>
        <p:spPr>
          <a:xfrm>
            <a:off x="4195800" y="3232080"/>
            <a:ext cx="427680" cy="202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1192320" y="360216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 for locu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74800" y="703440"/>
            <a:ext cx="0" cy="1069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88480" y="700200"/>
            <a:ext cx="0" cy="1069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94600" y="2157480"/>
            <a:ext cx="0" cy="21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71560" y="2158920"/>
            <a:ext cx="0" cy="2170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08240" y="3556080"/>
            <a:ext cx="133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496000" y="176832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91720" y="197496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8920" y="4160880"/>
            <a:ext cx="86709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general.  Every inheritance vector defines a subgraph as indicated by the black lines above.  Construct a founder graph whose vertices are the founder variables and where there is an edge between two vertices if they have a common typed descendent.  The label of an edge is the constraint dictated by the common typed descendent. Now find all consistent assignments for every connected compo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38480" y="6356520"/>
            <a:ext cx="655560" cy="36036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1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8920" y="6348240"/>
            <a:ext cx="657000" cy="35892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39000" y="6356520"/>
            <a:ext cx="657360" cy="36036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18000" y="6356520"/>
            <a:ext cx="657360" cy="358560"/>
          </a:xfrm>
          <a:prstGeom prst="ellipse">
            <a:avLst/>
          </a:prstGeom>
          <a:solidFill>
            <a:srgbClr val="ff99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Comic Sans MS"/>
              </a:rPr>
              <a:t>2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3" idx="6"/>
            <a:endCxn id="196" idx="2"/>
          </p:cNvCxnSpPr>
          <p:nvPr/>
        </p:nvCxnSpPr>
        <p:spPr>
          <a:xfrm flipV="1">
            <a:off x="3808440" y="6535440"/>
            <a:ext cx="15962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3963960" y="6095880"/>
            <a:ext cx="116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du</cp:lastModifiedBy>
  <dcterms:modified xsi:type="dcterms:W3CDTF">2007-05-02T20:05:1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