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22AFE-2C8C-48EA-BA2C-7A7CE1F8A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C96D1-0C80-422F-BEA6-6EB85C8B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58895-1FA0-4629-A17B-1A6B37003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D9F89-B36F-4DD5-A359-8BB58A744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BFC4-25C1-48E6-9EB7-14A8E7EE3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34682-EEC7-426C-8D5F-110F1F27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B4B4-8C41-4A08-8CA6-173E1CB8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E23BE-14F0-4053-8896-CCA794B9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B3DD4-2CA9-43FC-A8DC-47EC138E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C831-362A-4EAA-8492-6078907D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8B66-B436-41DD-B387-D1997A5D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BFBE8-66C8-4126-B1E4-2D8B9EE0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19E9-A57D-42AF-9B76-1DB77A3B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83AE9-8849-47EA-BABB-1C77F73C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51EC-0427-433D-BEDA-ED63B43B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33AA-F846-4A40-A015-AF34FC70F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8C099-2E5B-4C81-8076-341ACD94C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DEB10-F946-4562-9B54-FF9CE88D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08349-D67F-4A6B-9615-0FDBC918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E9843-251D-422D-9819-2BA4A2F7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FA4D1-BDFF-440C-9003-99062C4D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541A9-5555-4251-95E6-15633020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CDCCB-6EEF-4C04-9FF4-D7EED774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6363E-468A-444F-9566-880A573D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8C47-C6B9-49DE-A0BC-36C9089BB9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1673-CA54-4E8F-8331-92C33BCD15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andling Marker-Marker Linkage Disequilibrium: Pedigree Analysis with Clustered Marker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09120" y="44953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ahoma"/>
              </a:rPr>
              <a:t>çalo Abecasis and Janis Wiggint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ahoma"/>
              </a:rPr>
              <a:t>University of Michigan, Ann Arb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ahoma"/>
              </a:rPr>
              <a:t>(in American Journal of Human Genetics, 200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er-Green Algorithm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the transition probabilities between inheritance vectors at consecutive markers: P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then do the Markov-chain calculations in a standard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438280" y="4408560"/>
            <a:ext cx="45990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50640" y="-360"/>
            <a:ext cx="8412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nsitio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932120" y="876240"/>
                <a:ext cx="670212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where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m,f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86760" y="107172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88920" y="3327480"/>
                <a:ext cx="9012240" cy="17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m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f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m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f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θ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θ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θ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θ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θ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θ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θ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θ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</m:e>
                            </m:d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06" name=""/>
          <p:cNvGrpSpPr/>
          <p:nvPr/>
        </p:nvGrpSpPr>
        <p:grpSpPr>
          <a:xfrm>
            <a:off x="87480" y="5286240"/>
            <a:ext cx="6068880" cy="581040"/>
            <a:chOff x="87480" y="5286240"/>
            <a:chExt cx="6068880" cy="581040"/>
          </a:xfrm>
        </p:grpSpPr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3306600" y="5286240"/>
                  <a:ext cx="2849760" cy="58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⊗</m:t>
                      </m:r>
                      <m:r>
                        <m:t xml:space="preserve">M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8" name=""/>
            <p:cNvSpPr/>
            <p:nvPr/>
          </p:nvSpPr>
          <p:spPr>
            <a:xfrm>
              <a:off x="87480" y="5302080"/>
              <a:ext cx="32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The Kronecker produc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6875280" y="5322960"/>
            <a:ext cx="2006640" cy="1144440"/>
            <a:chOff x="6875280" y="5322960"/>
            <a:chExt cx="2006640" cy="1144440"/>
          </a:xfrm>
        </p:grpSpPr>
        <p:sp>
          <p:nvSpPr>
            <p:cNvPr id="210" name=""/>
            <p:cNvSpPr/>
            <p:nvPr/>
          </p:nvSpPr>
          <p:spPr>
            <a:xfrm flipH="1">
              <a:off x="6875280" y="5640480"/>
              <a:ext cx="1090440" cy="82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"/>
                <p:cNvSpPr txBox="1"/>
                <p:nvPr/>
              </p:nvSpPr>
              <p:spPr>
                <a:xfrm>
                  <a:off x="7273800" y="5322960"/>
                  <a:ext cx="160812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rPr>
                          <m:lit/>
                          <m:nor/>
                        </m:rPr>
                        <m:t xml:space="preserve">hen</m:t>
                      </m:r>
                      <m:r>
                        <m:t xml:space="preserve">: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2" name=""/>
          <p:cNvGrpSpPr/>
          <p:nvPr/>
        </p:nvGrpSpPr>
        <p:grpSpPr>
          <a:xfrm>
            <a:off x="88920" y="5865840"/>
            <a:ext cx="8637480" cy="923760"/>
            <a:chOff x="88920" y="5865840"/>
            <a:chExt cx="8637480" cy="923760"/>
          </a:xfrm>
        </p:grpSpPr>
        <mc:AlternateContent>
          <mc:Choice xmlns:a14="http://schemas.microsoft.com/office/drawing/2010/main" Requires="a14">
            <p:sp>
              <p:nvSpPr>
                <p:cNvPr id="213" name=""/>
                <p:cNvSpPr txBox="1"/>
                <p:nvPr/>
              </p:nvSpPr>
              <p:spPr>
                <a:xfrm>
                  <a:off x="171360" y="6292800"/>
                  <a:ext cx="8074080" cy="49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M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⊗</m:t>
                          </m:r>
                          <m:r>
                            <m:t xml:space="preserve">M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d>
                      <m:r>
                        <m:t xml:space="preserve">⊗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 n times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⊗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M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⊗</m:t>
                          </m:r>
                          <m:r>
                            <m:t xml:space="preserve">M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d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=⊗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n</m:t>
                          </m:r>
                        </m:sup>
                      </m:sSup>
                      <m:r>
                        <m:t xml:space="preserve">M</m:t>
                      </m:r>
                      <m:r>
                        <m:t xml:space="preserve">(</m:t>
                      </m:r>
                      <m:r>
                        <m:t xml:space="preserve">θ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4" name=""/>
            <p:cNvSpPr/>
            <p:nvPr/>
          </p:nvSpPr>
          <p:spPr>
            <a:xfrm>
              <a:off x="88920" y="5865840"/>
              <a:ext cx="863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n non-founders, the transition matrix is the n-fold Kronecker  produc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88920" y="1662120"/>
            <a:ext cx="833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theta depends on I but this dependence is omitted. In our example, where we have one non-founder (n=1), the transition probability table size is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ding four options of recombination/non-recombination for the two parental meio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50640" y="-360"/>
            <a:ext cx="8412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80880" y="1066680"/>
                <a:ext cx="6450120" cy="183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⋅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θ</m:t>
                                      </m:r>
                                    </m:e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θ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θ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θ</m:t>
                                      </m:r>
                                    </m:e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θ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3670200" y="3105000"/>
                <a:ext cx="445932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⋅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θ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430200" y="4098960"/>
            <a:ext cx="8104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if we start with a matrix of siz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n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need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s if we had matrix A in hands.  Continuing recursively, at most 2n times, yields a complexity of O(2n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r less than O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needed for regular multi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=10 non-founders, we drop from non-feasible region to feasible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ies that we need for the Lander-Green algorithm to 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heritance vector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each marker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otype probabilities: P(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 probabilities: P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er-Green with LD Mark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4686120"/>
            <a:ext cx="8229600" cy="18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 and 3 remain un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 needs to compute P(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clus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189160" y="2200320"/>
            <a:ext cx="476424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ability of Observed Genotypes within a Cluster: 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P(G</a:t>
            </a:r>
            <a:r>
              <a:rPr b="0" lang="en-US" sz="3200" spc="-1" strike="noStrike" baseline="-25000">
                <a:solidFill>
                  <a:srgbClr val="9999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,G</a:t>
            </a:r>
            <a:r>
              <a:rPr b="0" lang="en-US" sz="3200" spc="-1" strike="noStrike" baseline="-25000">
                <a:solidFill>
                  <a:srgbClr val="9999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…G</a:t>
            </a:r>
            <a:r>
              <a:rPr b="0" lang="en-US" sz="3200" spc="-1" strike="noStrike" baseline="-25000">
                <a:solidFill>
                  <a:srgbClr val="9999ff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|</a:t>
            </a:r>
            <a:r>
              <a:rPr b="1" lang="en-US" sz="3200" spc="-1" strike="noStrike">
                <a:solidFill>
                  <a:srgbClr val="9999ff"/>
                </a:solidFill>
                <a:latin typeface="Arial"/>
              </a:rPr>
              <a:t>v</a:t>
            </a:r>
            <a:r>
              <a:rPr b="1" lang="en-US" sz="3200" spc="-1" strike="noStrike" baseline="-25000">
                <a:solidFill>
                  <a:srgbClr val="9999ff"/>
                </a:solidFill>
                <a:latin typeface="Arial"/>
              </a:rPr>
              <a:t>cluster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200400" y="2398680"/>
            <a:ext cx="2209680" cy="1106640"/>
            <a:chOff x="3200400" y="2398680"/>
            <a:chExt cx="2209680" cy="1106640"/>
          </a:xfrm>
        </p:grpSpPr>
        <p:sp>
          <p:nvSpPr>
            <p:cNvPr id="228" name=""/>
            <p:cNvSpPr/>
            <p:nvPr/>
          </p:nvSpPr>
          <p:spPr>
            <a:xfrm>
              <a:off x="3681360" y="2976480"/>
              <a:ext cx="1263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99ff"/>
                  </a:solidFill>
                  <a:latin typeface="Arial"/>
                </a:rPr>
                <a:t>G</a:t>
              </a:r>
              <a:r>
                <a:rPr b="0" lang="en-US" sz="1800" spc="-1" strike="noStrike" baseline="-25000">
                  <a:solidFill>
                    <a:srgbClr val="9999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9999ff"/>
                  </a:solidFill>
                  <a:latin typeface="Arial"/>
                </a:rPr>
                <a:t>,G</a:t>
              </a:r>
              <a:r>
                <a:rPr b="0" lang="en-US" sz="1800" spc="-1" strike="noStrike" baseline="-25000">
                  <a:solidFill>
                    <a:srgbClr val="9999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9999ff"/>
                  </a:solidFill>
                  <a:latin typeface="Arial"/>
                </a:rPr>
                <a:t>…G</a:t>
              </a:r>
              <a:r>
                <a:rPr b="0" lang="en-US" sz="1800" spc="-1" strike="noStrike" baseline="-25000">
                  <a:solidFill>
                    <a:srgbClr val="9999ff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200400" y="2819520"/>
              <a:ext cx="220968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850200" y="239868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u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457200" y="3657600"/>
            <a:ext cx="8229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99ff"/>
                </a:solidFill>
                <a:latin typeface="Arial"/>
              </a:rPr>
              <a:t>h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ct haplotypes in th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99ff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9999ff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9999ff"/>
                </a:solidFill>
                <a:latin typeface="Arial"/>
              </a:rPr>
              <a:t>,…,p</a:t>
            </a:r>
            <a:r>
              <a:rPr b="0" i="1" lang="en-US" sz="2400" spc="-1" strike="noStrike" baseline="-25000">
                <a:solidFill>
                  <a:srgbClr val="9999ff"/>
                </a:solidFill>
                <a:latin typeface="Arial"/>
              </a:rPr>
              <a:t>h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99ff"/>
                </a:solidFill>
                <a:latin typeface="Arial"/>
              </a:rPr>
              <a:t>H</a:t>
            </a:r>
            <a:r>
              <a:rPr b="0" i="1" lang="en-US" sz="2400" spc="-1" strike="noStrike" baseline="-25000">
                <a:solidFill>
                  <a:srgbClr val="9999ff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of founder haplotyp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 wher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i = 1…2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54100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: for each inheritance vect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P(G</a:t>
            </a:r>
            <a:r>
              <a:rPr b="0" lang="en-US" sz="3200" spc="-1" strike="noStrike" baseline="-25000">
                <a:solidFill>
                  <a:srgbClr val="9999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…G</a:t>
            </a:r>
            <a:r>
              <a:rPr b="0" lang="en-US" sz="3200" spc="-1" strike="noStrike" baseline="-25000">
                <a:solidFill>
                  <a:srgbClr val="9999ff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|p</a:t>
            </a:r>
            <a:r>
              <a:rPr b="0" lang="en-US" sz="3200" spc="-1" strike="noStrike" baseline="-25000">
                <a:solidFill>
                  <a:srgbClr val="9999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…p</a:t>
            </a:r>
            <a:r>
              <a:rPr b="0" lang="en-US" sz="3200" spc="-1" strike="noStrike" baseline="-25000">
                <a:solidFill>
                  <a:srgbClr val="9999ff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9999ff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33520" y="1217520"/>
            <a:ext cx="2971800" cy="5968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352680" y="1217520"/>
            <a:ext cx="3251160" cy="5842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6435720" y="1293840"/>
            <a:ext cx="2098800" cy="4366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3295800" y="1770120"/>
            <a:ext cx="3481200" cy="7398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5"/>
          <a:stretch/>
        </p:blipFill>
        <p:spPr>
          <a:xfrm>
            <a:off x="6467400" y="1805040"/>
            <a:ext cx="1868400" cy="6411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 rot="16200000">
            <a:off x="5486400" y="1522440"/>
            <a:ext cx="152640" cy="1828800"/>
          </a:xfrm>
          <a:custGeom>
            <a:avLst/>
            <a:gdLst>
              <a:gd name="textAreaLeft" fmla="*/ 97560 w 152640"/>
              <a:gd name="textAreaRight" fmla="*/ 153000 w 1526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486400" y="2589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93800" y="3057480"/>
            <a:ext cx="44312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either </a:t>
            </a:r>
            <a:r>
              <a:rPr b="1" lang="en-US" sz="2000" spc="-1" strike="noStrike">
                <a:solidFill>
                  <a:srgbClr val="9999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the implied haplotyp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individual are compatible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bserved genotypes, and </a:t>
            </a:r>
            <a:r>
              <a:rPr b="1" lang="en-US" sz="2000" spc="-1" strike="noStrike">
                <a:solidFill>
                  <a:srgbClr val="9999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therwis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6"/>
          <a:stretch/>
        </p:blipFill>
        <p:spPr>
          <a:xfrm>
            <a:off x="3505320" y="4494240"/>
            <a:ext cx="2887560" cy="6904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7"/>
          <a:stretch/>
        </p:blipFill>
        <p:spPr>
          <a:xfrm>
            <a:off x="638280" y="4522680"/>
            <a:ext cx="2971800" cy="5968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757160" y="5332320"/>
            <a:ext cx="61185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1" lang="en-US" sz="1800" spc="-1" strike="noStrike">
                <a:solidFill>
                  <a:srgbClr val="9999ff"/>
                </a:solidFill>
                <a:latin typeface="Arial"/>
              </a:rPr>
              <a:t>S(…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set of founder haplotype configur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tible with the inheritance vect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observ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otype data 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, 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go to paper for S explan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2895120" y="5027760"/>
            <a:ext cx="1295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81160" y="334800"/>
            <a:ext cx="8581680" cy="618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imation of Haplotype Frequencies in General Pedigre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er haplotypes frequencies for each cluster are generally un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-counting EM algorithm for estimating the haplotype frequencies in each clu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package MER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hetic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 sibships, each with three affected siblings and one genotyped 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dataset – Psoria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tuart et al.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158 individuals in 274 families in Germany and USA, and 2,598 individuals were genoty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linkage analysis algorithms assume independence between ma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, markers are relatively “far apart” from each other (on the chromoso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linkage analysis based on Single-Nucleotide Polymorphic markers (SN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, the distance between SNP markers is very small (also known as Linkage Disequilibrium (LD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xtend the Lander-Green algorithm to incorporate marker-marker 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842184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2184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digree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unders (i.e. with unknown par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cend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otype data available at a series of genetic markers for one or more individuals in the pedigree (some markers can be in 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t the inheritanc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, LOD score, maximum-likelihood haplotype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rs can be organized into non-overlapping clusters such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rs in the same cluster may be in 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rs in different clusters may exhibit low levels of 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, ignore LD between markers in different clu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bination rate is extremely low within each cluster (set 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,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ahoma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 = 0, inside a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er-Green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599000" cy="2221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062800" y="4419720"/>
            <a:ext cx="485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 variables represent the observed geno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imilar to Dan Geiger X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riables represent the “inheritance vector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imilar to Dan Geiger’s selector variab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28040" y="1828800"/>
            <a:ext cx="23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dden Markov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14240" y="6172200"/>
            <a:ext cx="5569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</a:t>
            </a:r>
            <a:r>
              <a:rPr b="0" lang="en-US" sz="1800" spc="-1" strike="noStrike">
                <a:solidFill>
                  <a:srgbClr val="9999ff"/>
                </a:solidFill>
                <a:latin typeface="Arial"/>
              </a:rPr>
              <a:t>compute P(G</a:t>
            </a:r>
            <a:r>
              <a:rPr b="0" lang="en-US" sz="1800" spc="-1" strike="noStrike" baseline="-25000">
                <a:solidFill>
                  <a:srgbClr val="9999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9999ff"/>
                </a:solidFill>
                <a:latin typeface="Arial"/>
              </a:rPr>
              <a:t>,…,G</a:t>
            </a:r>
            <a:r>
              <a:rPr b="0" lang="en-US" sz="1800" spc="-1" strike="noStrike" baseline="-25000">
                <a:solidFill>
                  <a:srgbClr val="9999ff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9999ff"/>
                </a:solidFill>
                <a:latin typeface="Arial"/>
              </a:rPr>
              <a:t>|</a:t>
            </a:r>
            <a:r>
              <a:rPr b="0" lang="el-GR" sz="1800" spc="-1" strike="noStrike">
                <a:solidFill>
                  <a:srgbClr val="9999ff"/>
                </a:solidFill>
                <a:latin typeface="Arial"/>
                <a:ea typeface="Arial"/>
              </a:rPr>
              <a:t>θ</a:t>
            </a:r>
            <a:r>
              <a:rPr b="0" lang="en-US" sz="1800" spc="-1" strike="noStrike">
                <a:solidFill>
                  <a:srgbClr val="9999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ed for LOD sco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er-Green Algorithm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umeration of all possible “inheritance vectors” in the input pedi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founders, the inheritance vect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marke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ector recording the transmission of the paternal or maternal allele (i.e.,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elector variab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Geiger’s mod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up to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heritance vectors (Lander&amp;Green198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er-Green Algorithm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rating over inheritance vectors and markers to calculate the probability of the observed genotypes for each marker conditioned on a particular inheritance vec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done using the “genetic descendant graph” (see Geiger 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0920" y="54720"/>
            <a:ext cx="8412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8920" y="969840"/>
            <a:ext cx="8140680" cy="2992680"/>
          </a:xfrm>
          <a:prstGeom prst="rect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1960" y="1781280"/>
            <a:ext cx="655560" cy="36036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mic Sans MS"/>
              </a:rPr>
              <a:t>23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97080" y="1163520"/>
            <a:ext cx="655920" cy="360360"/>
          </a:xfrm>
          <a:prstGeom prst="ellipse">
            <a:avLst/>
          </a:prstGeom>
          <a:solidFill>
            <a:srgbClr val="ff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mic Sans MS"/>
              </a:rPr>
              <a:t>21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87520" y="1155600"/>
            <a:ext cx="657360" cy="358920"/>
          </a:xfrm>
          <a:prstGeom prst="ellipse">
            <a:avLst/>
          </a:prstGeom>
          <a:solidFill>
            <a:srgbClr val="ff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mic Sans MS"/>
              </a:rPr>
              <a:t>2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67120" y="2859120"/>
            <a:ext cx="657360" cy="358920"/>
          </a:xfrm>
          <a:prstGeom prst="ellipse">
            <a:avLst/>
          </a:prstGeom>
          <a:solidFill>
            <a:srgbClr val="ff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mic Sans MS"/>
              </a:rPr>
              <a:t>23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19240" y="1778040"/>
            <a:ext cx="659160" cy="36180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6" idx="4"/>
            <a:endCxn id="128" idx="0"/>
          </p:cNvCxnSpPr>
          <p:nvPr/>
        </p:nvCxnSpPr>
        <p:spPr>
          <a:xfrm>
            <a:off x="3425400" y="1536480"/>
            <a:ext cx="770760" cy="1308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7" idx="4"/>
            <a:endCxn id="128" idx="0"/>
          </p:cNvCxnSpPr>
          <p:nvPr/>
        </p:nvCxnSpPr>
        <p:spPr>
          <a:xfrm>
            <a:off x="1816200" y="1528560"/>
            <a:ext cx="2379960" cy="1316160"/>
          </a:xfrm>
          <a:prstGeom prst="straightConnector1">
            <a:avLst/>
          </a:prstGeom>
          <a:ln cap="rnd" w="38160">
            <a:solidFill>
              <a:srgbClr val="00007d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27" idx="5"/>
            <a:endCxn id="129" idx="1"/>
          </p:cNvCxnSpPr>
          <p:nvPr/>
        </p:nvCxnSpPr>
        <p:spPr>
          <a:xfrm>
            <a:off x="2047680" y="1474920"/>
            <a:ext cx="967320" cy="343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6" idx="3"/>
            <a:endCxn id="129" idx="1"/>
          </p:cNvCxnSpPr>
          <p:nvPr/>
        </p:nvCxnSpPr>
        <p:spPr>
          <a:xfrm flipH="1">
            <a:off x="3014640" y="1484280"/>
            <a:ext cx="178200" cy="334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5" idx="6"/>
            <a:endCxn id="128" idx="1"/>
          </p:cNvCxnSpPr>
          <p:nvPr/>
        </p:nvCxnSpPr>
        <p:spPr>
          <a:xfrm>
            <a:off x="1231560" y="1962000"/>
            <a:ext cx="2732400" cy="937440"/>
          </a:xfrm>
          <a:prstGeom prst="straightConnector1">
            <a:avLst/>
          </a:prstGeom>
          <a:ln cap="rnd" w="38160">
            <a:solidFill>
              <a:srgbClr val="00007d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7765920" y="1781280"/>
            <a:ext cx="655920" cy="36036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mic Sans MS"/>
              </a:rPr>
              <a:t>23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97600" y="1163520"/>
            <a:ext cx="657360" cy="360360"/>
          </a:xfrm>
          <a:prstGeom prst="ellipse">
            <a:avLst/>
          </a:prstGeom>
          <a:solidFill>
            <a:srgbClr val="ff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mic Sans MS"/>
              </a:rPr>
              <a:t>22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76960" y="1163520"/>
            <a:ext cx="657000" cy="358920"/>
          </a:xfrm>
          <a:prstGeom prst="ellipse">
            <a:avLst/>
          </a:prstGeom>
          <a:solidFill>
            <a:srgbClr val="ff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mic Sans MS"/>
              </a:rPr>
              <a:t>22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18160" y="2854440"/>
            <a:ext cx="657000" cy="360360"/>
          </a:xfrm>
          <a:prstGeom prst="ellipse">
            <a:avLst/>
          </a:prstGeom>
          <a:solidFill>
            <a:srgbClr val="ff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mic Sans MS"/>
              </a:rPr>
              <a:t>23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7240" y="1781280"/>
            <a:ext cx="658800" cy="3603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mic Sans MS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6" idx="4"/>
            <a:endCxn id="138" idx="0"/>
          </p:cNvCxnSpPr>
          <p:nvPr/>
        </p:nvCxnSpPr>
        <p:spPr>
          <a:xfrm flipH="1">
            <a:off x="5046480" y="1536840"/>
            <a:ext cx="2180160" cy="1303920"/>
          </a:xfrm>
          <a:prstGeom prst="straightConnector1">
            <a:avLst/>
          </a:prstGeom>
          <a:ln cap="rnd" w="38160">
            <a:solidFill>
              <a:srgbClr val="00007d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41" name=""/>
          <p:cNvCxnSpPr>
            <a:stCxn id="137" idx="4"/>
            <a:endCxn id="138" idx="0"/>
          </p:cNvCxnSpPr>
          <p:nvPr/>
        </p:nvCxnSpPr>
        <p:spPr>
          <a:xfrm flipH="1">
            <a:off x="5046480" y="1534680"/>
            <a:ext cx="659520" cy="1305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7" idx="4"/>
            <a:endCxn id="139" idx="0"/>
          </p:cNvCxnSpPr>
          <p:nvPr/>
        </p:nvCxnSpPr>
        <p:spPr>
          <a:xfrm>
            <a:off x="5705280" y="1535040"/>
            <a:ext cx="262080" cy="232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6" idx="3"/>
            <a:endCxn id="139" idx="7"/>
          </p:cNvCxnSpPr>
          <p:nvPr/>
        </p:nvCxnSpPr>
        <p:spPr>
          <a:xfrm flipH="1">
            <a:off x="6199920" y="1483920"/>
            <a:ext cx="793080" cy="33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5" idx="2"/>
            <a:endCxn id="138" idx="7"/>
          </p:cNvCxnSpPr>
          <p:nvPr/>
        </p:nvCxnSpPr>
        <p:spPr>
          <a:xfrm flipH="1">
            <a:off x="5277960" y="1961640"/>
            <a:ext cx="2473920" cy="932760"/>
          </a:xfrm>
          <a:prstGeom prst="straightConnector1">
            <a:avLst/>
          </a:prstGeom>
          <a:ln cap="rnd" w="38160">
            <a:solidFill>
              <a:srgbClr val="00007d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4294080" y="3448080"/>
            <a:ext cx="658800" cy="36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mic Sans MS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38" idx="4"/>
            <a:endCxn id="145" idx="0"/>
          </p:cNvCxnSpPr>
          <p:nvPr/>
        </p:nvCxnSpPr>
        <p:spPr>
          <a:xfrm flipH="1">
            <a:off x="4622400" y="3227040"/>
            <a:ext cx="424800" cy="207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28" idx="4"/>
            <a:endCxn id="145" idx="0"/>
          </p:cNvCxnSpPr>
          <p:nvPr/>
        </p:nvCxnSpPr>
        <p:spPr>
          <a:xfrm>
            <a:off x="4195800" y="3232080"/>
            <a:ext cx="427680" cy="202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1192320" y="360216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 for locus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74800" y="703440"/>
            <a:ext cx="0" cy="1069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088480" y="700200"/>
            <a:ext cx="0" cy="1069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094600" y="2157480"/>
            <a:ext cx="0" cy="21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71560" y="2158920"/>
            <a:ext cx="0" cy="2170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8920" y="4414680"/>
            <a:ext cx="8670960" cy="11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ssume only individual 3 is genotyped. For the inheritance vector (0,1), the founder alleles 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1m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nd 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2f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re not restricted by the data while 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1f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2m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 have two possible joint assignments 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 or 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 on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08240" y="3556080"/>
            <a:ext cx="133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496000" y="176832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91720" y="197496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0040" y="5372280"/>
            <a:ext cx="690552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,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|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3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3f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p(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p(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8920" y="5923080"/>
            <a:ext cx="8670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 general.  Every inheritance vector defines a subgraph of the Bayesian network above.  We build a founder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0920" y="54720"/>
            <a:ext cx="8412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990720"/>
            <a:ext cx="8140680" cy="2992320"/>
          </a:xfrm>
          <a:prstGeom prst="rect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1960" y="1781280"/>
            <a:ext cx="655560" cy="36036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mic Sans MS"/>
              </a:rPr>
              <a:t>23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97080" y="1163520"/>
            <a:ext cx="655920" cy="360360"/>
          </a:xfrm>
          <a:prstGeom prst="ellipse">
            <a:avLst/>
          </a:prstGeom>
          <a:solidFill>
            <a:srgbClr val="ff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mic Sans MS"/>
              </a:rPr>
              <a:t>21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87520" y="1155600"/>
            <a:ext cx="657360" cy="358920"/>
          </a:xfrm>
          <a:prstGeom prst="ellipse">
            <a:avLst/>
          </a:prstGeom>
          <a:solidFill>
            <a:srgbClr val="ff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mic Sans MS"/>
              </a:rPr>
              <a:t>2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67120" y="2859120"/>
            <a:ext cx="657360" cy="358920"/>
          </a:xfrm>
          <a:prstGeom prst="ellipse">
            <a:avLst/>
          </a:prstGeom>
          <a:solidFill>
            <a:srgbClr val="ff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mic Sans MS"/>
              </a:rPr>
              <a:t>23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919240" y="1778040"/>
            <a:ext cx="659160" cy="36180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"/>
          <p:cNvCxnSpPr>
            <a:stCxn id="162" idx="4"/>
            <a:endCxn id="164" idx="0"/>
          </p:cNvCxnSpPr>
          <p:nvPr/>
        </p:nvCxnSpPr>
        <p:spPr>
          <a:xfrm>
            <a:off x="3425400" y="1536480"/>
            <a:ext cx="770760" cy="1308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3" idx="4"/>
            <a:endCxn id="164" idx="0"/>
          </p:cNvCxnSpPr>
          <p:nvPr/>
        </p:nvCxnSpPr>
        <p:spPr>
          <a:xfrm>
            <a:off x="1816200" y="1528560"/>
            <a:ext cx="2379960" cy="1316160"/>
          </a:xfrm>
          <a:prstGeom prst="straightConnector1">
            <a:avLst/>
          </a:prstGeom>
          <a:ln cap="rnd" w="38160">
            <a:solidFill>
              <a:srgbClr val="00007d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68" name=""/>
          <p:cNvCxnSpPr>
            <a:stCxn id="163" idx="5"/>
            <a:endCxn id="165" idx="1"/>
          </p:cNvCxnSpPr>
          <p:nvPr/>
        </p:nvCxnSpPr>
        <p:spPr>
          <a:xfrm>
            <a:off x="2047680" y="1474920"/>
            <a:ext cx="967320" cy="343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2" idx="3"/>
            <a:endCxn id="165" idx="1"/>
          </p:cNvCxnSpPr>
          <p:nvPr/>
        </p:nvCxnSpPr>
        <p:spPr>
          <a:xfrm flipH="1">
            <a:off x="3014640" y="1484280"/>
            <a:ext cx="178200" cy="334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6"/>
            <a:endCxn id="164" idx="1"/>
          </p:cNvCxnSpPr>
          <p:nvPr/>
        </p:nvCxnSpPr>
        <p:spPr>
          <a:xfrm>
            <a:off x="1231560" y="1962000"/>
            <a:ext cx="2732400" cy="937440"/>
          </a:xfrm>
          <a:prstGeom prst="straightConnector1">
            <a:avLst/>
          </a:prstGeom>
          <a:ln cap="rnd" w="38160">
            <a:solidFill>
              <a:srgbClr val="00007d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7765920" y="1781280"/>
            <a:ext cx="655920" cy="36036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mic Sans MS"/>
              </a:rPr>
              <a:t>23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97600" y="1163520"/>
            <a:ext cx="657360" cy="360360"/>
          </a:xfrm>
          <a:prstGeom prst="ellipse">
            <a:avLst/>
          </a:prstGeom>
          <a:solidFill>
            <a:srgbClr val="ff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mic Sans MS"/>
              </a:rPr>
              <a:t>22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76960" y="1163520"/>
            <a:ext cx="657000" cy="358920"/>
          </a:xfrm>
          <a:prstGeom prst="ellipse">
            <a:avLst/>
          </a:prstGeom>
          <a:solidFill>
            <a:srgbClr val="ff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mic Sans MS"/>
              </a:rPr>
              <a:t>22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18160" y="2854440"/>
            <a:ext cx="657000" cy="360360"/>
          </a:xfrm>
          <a:prstGeom prst="ellipse">
            <a:avLst/>
          </a:prstGeom>
          <a:solidFill>
            <a:srgbClr val="ff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mic Sans MS"/>
              </a:rPr>
              <a:t>23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7240" y="1781280"/>
            <a:ext cx="658800" cy="3603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mic Sans MS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"/>
          <p:cNvCxnSpPr>
            <a:stCxn id="172" idx="4"/>
            <a:endCxn id="174" idx="0"/>
          </p:cNvCxnSpPr>
          <p:nvPr/>
        </p:nvCxnSpPr>
        <p:spPr>
          <a:xfrm flipH="1">
            <a:off x="5046480" y="1536840"/>
            <a:ext cx="2180160" cy="1303920"/>
          </a:xfrm>
          <a:prstGeom prst="straightConnector1">
            <a:avLst/>
          </a:prstGeom>
          <a:ln cap="rnd" w="38160">
            <a:solidFill>
              <a:srgbClr val="00007d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77" name=""/>
          <p:cNvCxnSpPr>
            <a:stCxn id="173" idx="4"/>
            <a:endCxn id="174" idx="0"/>
          </p:cNvCxnSpPr>
          <p:nvPr/>
        </p:nvCxnSpPr>
        <p:spPr>
          <a:xfrm flipH="1">
            <a:off x="5046480" y="1534680"/>
            <a:ext cx="659520" cy="1305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3" idx="4"/>
            <a:endCxn id="175" idx="0"/>
          </p:cNvCxnSpPr>
          <p:nvPr/>
        </p:nvCxnSpPr>
        <p:spPr>
          <a:xfrm>
            <a:off x="5705280" y="1535040"/>
            <a:ext cx="262080" cy="232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2" idx="3"/>
            <a:endCxn id="175" idx="7"/>
          </p:cNvCxnSpPr>
          <p:nvPr/>
        </p:nvCxnSpPr>
        <p:spPr>
          <a:xfrm flipH="1">
            <a:off x="6199920" y="1483920"/>
            <a:ext cx="793080" cy="33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1" idx="2"/>
            <a:endCxn id="174" idx="7"/>
          </p:cNvCxnSpPr>
          <p:nvPr/>
        </p:nvCxnSpPr>
        <p:spPr>
          <a:xfrm flipH="1">
            <a:off x="5277960" y="1961640"/>
            <a:ext cx="2473920" cy="932760"/>
          </a:xfrm>
          <a:prstGeom prst="straightConnector1">
            <a:avLst/>
          </a:prstGeom>
          <a:ln cap="rnd" w="38160">
            <a:solidFill>
              <a:srgbClr val="00007d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4294080" y="3448080"/>
            <a:ext cx="658800" cy="36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mic Sans MS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"/>
          <p:cNvCxnSpPr>
            <a:stCxn id="174" idx="4"/>
            <a:endCxn id="181" idx="0"/>
          </p:cNvCxnSpPr>
          <p:nvPr/>
        </p:nvCxnSpPr>
        <p:spPr>
          <a:xfrm flipH="1">
            <a:off x="4622400" y="3227040"/>
            <a:ext cx="424800" cy="207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64" idx="4"/>
            <a:endCxn id="181" idx="0"/>
          </p:cNvCxnSpPr>
          <p:nvPr/>
        </p:nvCxnSpPr>
        <p:spPr>
          <a:xfrm>
            <a:off x="4195800" y="3232080"/>
            <a:ext cx="427680" cy="202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"/>
          <p:cNvSpPr/>
          <p:nvPr/>
        </p:nvSpPr>
        <p:spPr>
          <a:xfrm>
            <a:off x="1192320" y="360216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 for locus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74800" y="703440"/>
            <a:ext cx="0" cy="1069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088480" y="700200"/>
            <a:ext cx="0" cy="1069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094600" y="2157480"/>
            <a:ext cx="0" cy="21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71560" y="2158920"/>
            <a:ext cx="0" cy="2170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08240" y="3556080"/>
            <a:ext cx="133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496000" y="176832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91720" y="197496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8920" y="4160880"/>
            <a:ext cx="86709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 general.  Every inheritance vector defines a subgraph as indicated by the black lines above.  Construct a founder graph whose vertices are the founder variables and where there is an edge between two vertices if they have a common typed descendent.  The label of an edge is the constraint dictated by the common typed descendent. Now find all consistent assignments for every connected compon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38480" y="6356520"/>
            <a:ext cx="655560" cy="360360"/>
          </a:xfrm>
          <a:prstGeom prst="ellipse">
            <a:avLst/>
          </a:prstGeom>
          <a:solidFill>
            <a:srgbClr val="ff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mic Sans MS"/>
              </a:rPr>
              <a:t>21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28920" y="6348240"/>
            <a:ext cx="657000" cy="358920"/>
          </a:xfrm>
          <a:prstGeom prst="ellipse">
            <a:avLst/>
          </a:prstGeom>
          <a:solidFill>
            <a:srgbClr val="ff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mic Sans MS"/>
              </a:rPr>
              <a:t>2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939000" y="6356520"/>
            <a:ext cx="657360" cy="360360"/>
          </a:xfrm>
          <a:prstGeom prst="ellipse">
            <a:avLst/>
          </a:prstGeom>
          <a:solidFill>
            <a:srgbClr val="ff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mic Sans MS"/>
              </a:rPr>
              <a:t>22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18000" y="6356520"/>
            <a:ext cx="657360" cy="358560"/>
          </a:xfrm>
          <a:prstGeom prst="ellipse">
            <a:avLst/>
          </a:prstGeom>
          <a:solidFill>
            <a:srgbClr val="ff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mic Sans MS"/>
              </a:rPr>
              <a:t>22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"/>
          <p:cNvCxnSpPr>
            <a:stCxn id="193" idx="6"/>
            <a:endCxn id="196" idx="2"/>
          </p:cNvCxnSpPr>
          <p:nvPr/>
        </p:nvCxnSpPr>
        <p:spPr>
          <a:xfrm flipV="1">
            <a:off x="3808440" y="6535440"/>
            <a:ext cx="159624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3963960" y="6095880"/>
            <a:ext cx="116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du</cp:lastModifiedBy>
  <dcterms:modified xsi:type="dcterms:W3CDTF">2007-05-02T20:05:11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